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D9B5-3E3C-42A2-9F1E-385E499F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38DA-D746-4DBB-BC37-7A5A8EBC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6E8D-9E5A-4C93-9064-BA460B34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5C41-7AF4-413F-B5A1-B7ABDDA1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B63E-388E-4068-8B04-A7B56CDC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40D0-4D70-489B-B35B-24F235D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F885-27DB-4D4E-A819-727DC54D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DA9E-3D80-4B58-A43E-8538237F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2548-178C-4578-A76A-4668C086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F898-928A-4E51-846E-478D8966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98D3-52D9-4A66-B00F-86898E3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8DAB-44EA-4E0E-97BC-9900E2A1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47C0-FB2C-4D52-B592-9B743EA6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343C-4249-4EBC-BA5D-4B33CED6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54FC-79A2-4E99-8483-28F15CC2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EF78-682C-447D-B25B-980A4270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7083-DF0F-460D-AA4B-B0CEE9BE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9BF3-981B-42D8-8A8A-831BF70C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6DFC-2B47-47E2-ABC5-4880C840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90BD-C80C-4868-94E7-53BFA130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F811-1E37-4F51-A880-54E1E249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D77E-2ECC-40F1-A5EE-3EB8ECF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50A1-4E23-4572-A470-324B7737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D28C-097D-4FA4-A78A-B6A8E481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0391-3CF1-4A77-9BA1-6CCDD8AE2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578-383D-441C-B433-785441039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ine cipher is another version of a substitution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tter is assigned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umbers are selected (a, b) between 0 and 25 such that the gcd(a,26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 and c represent letters (p,c are numbers between 0 and 26) where p is a plaintext letter and c is a ciphertext letter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13440" y="490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ap + b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55515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 = 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c - b)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A660-5F4D-4FDA-9DA5-31681DAE0C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key (a,b) = (7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d(7,2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6 = 15 (since 7 x 15 = 105 and 105 mod 26 =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3535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The general encipher/decipher equ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960" y="4087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7p + 3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4552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hot” is 7 14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040" y="506412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h)     = 7*7 + 3 mod 26 = 52 mod 26 = 0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3040" y="54594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o) = 7*14 + 3 mod 26 = 98 mod 26 = 23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8482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t)  = 7*19 + 3 mod 26 = 133 mod 26 = 6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5600" y="6246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4EA2-E0C7-4677-BC28-ABAFE06DE3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Cipher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5708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Affine option under the cipher menu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886120"/>
            <a:ext cx="7283520" cy="32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2766960"/>
            <a:ext cx="1164960" cy="784440"/>
          </a:xfrm>
          <a:prstGeom prst="wedgeRoundRectCallout">
            <a:avLst>
              <a:gd name="adj1" fmla="val -45097"/>
              <a:gd name="adj2" fmla="val 653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 the two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5040" y="2305080"/>
            <a:ext cx="1165320" cy="614160"/>
          </a:xfrm>
          <a:prstGeom prst="wedgeRoundRectCallout">
            <a:avLst>
              <a:gd name="adj1" fmla="val -45097"/>
              <a:gd name="adj2" fmla="val 972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set up you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0" y="2287440"/>
            <a:ext cx="1560600" cy="890640"/>
          </a:xfrm>
          <a:prstGeom prst="wedgeRoundRectCallout">
            <a:avLst>
              <a:gd name="adj1" fmla="val -55699"/>
              <a:gd name="adj2" fmla="val 9706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or message if you fail to select the correct ke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06280" y="620388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6131-3BC4-44DE-8F77-ED13B31931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0T08:51:09Z</dcterms:modified>
  <cp:revision>45</cp:revision>
  <dc:subject/>
  <dc:title>CAP Cryptographic Analysis Program</dc:title>
</cp:coreProperties>
</file>